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FC4D-DC9D-4704-B226-8D086E805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Quer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wys w/ experimental evidence in yeastcyc: in database S. cerevisiae, search for Pathways where at least one element of CITATIONS contains the substring EV-EXP.  Columns for NAME and CI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140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48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65214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376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C469-6ECB-45BD-8197-E21850DA9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477120"/>
            <a:ext cx="1143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iocyc.org/" TargetMode="External"/><Relationship Id="rId2" Type="http://schemas.openxmlformats.org/officeDocument/2006/relationships/hyperlink" Target="http://biocyc.org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Recent Developments in Pathway Tools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GMOD Workshop November ‘07</a:t>
            </a:r>
            <a:endParaRPr b="1" i="1" lang="en-US" sz="36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3523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uzanne Paley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informatics Research Gro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RI Internation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ley@ai.sri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c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Incremental PathoLogic (avail. in v.12.0)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vised annotations may contain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w gen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pdated gene properti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pdated functional descrip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urators don’t want to rebuild PGDB, don’t want to lose manual curation work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w command reads revised annotation file, compares w/ existing PGDB, presents summary of chang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urator can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pply a set of changes en masse (e.g. create all new gene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amine each change in a group and decide individually which to appl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ave progress and return lat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enerate report of changes to import into spreadshee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Incremental Update Summary Dialog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955800"/>
            <a:ext cx="6858000" cy="551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ssign Selected Reactions Dialog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5995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scoring Pathway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score Pathways after desired annotation changes have been mad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ftware remembers which pathways were inferred last ti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f a pathway has since been deleted, the software only considers it if there is now additional evidence for i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mmary lists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eviously deleted pathways now w/ more eviden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eviously inferred pathways that should now be prun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wly inferred pathway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thways not in MetaCyc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 each list, curator can quickly check off pathways that should be delet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Representation of Regulati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reviously, regulation represented idiosyncratically: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ne representation for modulation of enzym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ompletely different representation for regulation of transcription initiatio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Now unified under single Regulation class w/ subclasse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his enables us to easily add support for new kinds of regulation, e.g.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al attenuation (done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gulation of translation by small RNAs (in progress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New tools for display and editing of new Regulation classe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8001000" cy="98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8077320" cy="1257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Representation of Electron Transport Reaction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lectron transport reactions now composite reactions composed of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eft and right compounds inferred from constituent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irection of reaction inferred from standard reduction potential of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w display and editing tools to support new represent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4191120" cy="2046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24280" y="3608280"/>
            <a:ext cx="4114800" cy="271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cknowledge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eter Kar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rkus Krummenack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rio Latendress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rato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on Casp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grid Kesel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ex Shear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rol Fulch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eifen Zha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"/>
          <p:cNvSpPr/>
          <p:nvPr/>
        </p:nvSpPr>
        <p:spPr>
          <a:xfrm>
            <a:off x="2658960" y="60958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ioinformatics 18:S225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 PathoLogic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utational creation of new Pathway/Genome Databas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ransforms genome into Pathway Tools schema and layers inferred information above the genom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oper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metabolic network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pathway hole fill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fers transport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58960" y="60958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ioinformatics 18:S225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Editor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teractively update PGDBs with graphical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upport geographically distributed teams of curators with object database syste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ene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rotei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acti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mpound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per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ublicati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81480" y="990720"/>
            <a:ext cx="2156040" cy="2324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62520" y="4114800"/>
            <a:ext cx="3429000" cy="2522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143760" y="2743200"/>
            <a:ext cx="3000240" cy="2324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Navigato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771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Querying, visualization of pathways, chromosomes, oper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nalysis oper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arative genomic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WWW publishing of PGDB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esktop oper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42120" y="0"/>
            <a:ext cx="2801880" cy="2324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4496040" cy="3372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952880" y="2341440"/>
            <a:ext cx="2970360" cy="187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atabases on the Web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 Tools can be used either  as a standalone curation/publishing platform or as a Pathways Module that lives side by side w/ existing DB using other GMOD application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BioCyc (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biocyc.org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): a collection of PGDBs for 370 organisms – these are available for adoption by groups that wish to curate them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523880" y="2514600"/>
            <a:ext cx="624852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Develop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vigat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dvanced Query Form and BioVel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mics Viewer now shows data on 3 different overview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axonomic pruning reduces false positive pathway predic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cremental PathoLogic allows revised annotation to be imported into existing PGDB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ntolog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vised schema for representing regul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dded representation of electron transport reac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dvanced Query Capabilities and BioVelo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query across organisms and datatyp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either use structured form or more powerful BioVelo query languag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tructured form translates query to BioVelo, so you can copy, paste, modify if desir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Taxonomic Pruning in PathoLogic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istorically, PathoLogic very conservative, prefers to infer more pathways and let curator strip out false prediction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rowing numbers of pathway variants in MetaCyc mean potentially many false positive pathway predi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Cyc pathways now tagged w/ Taxonomic-Range attribut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ways will not be predicted for an organism outside its taxonomic-range unless it has enzymes identified for all or almost all its step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r can turn off taxonomic pruning if too many pathways being pruned ou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7:03:00Z</dcterms:created>
  <dc:creator>paley</dc:creator>
  <dc:description/>
  <dc:language>en-US</dc:language>
  <cp:lastModifiedBy>paley</cp:lastModifiedBy>
  <dcterms:modified xsi:type="dcterms:W3CDTF">2007-11-05T19:58:10Z</dcterms:modified>
  <cp:revision>6</cp:revision>
  <dc:subject/>
  <dc:title>Recent Developments in Pathway Tools  GMOD Workshop November ‘07</dc:title>
</cp:coreProperties>
</file>